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ADD0-5907-4203-9BDE-675EF6AD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2CE0-41A3-4F1F-AB43-CC3D8D7A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F64B-8D98-4DED-B320-F3382333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077F-C68B-46B7-8957-E3C911B2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C4E3-8C46-4F33-8446-749FC7F5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A4B4-1362-4CC6-808B-C7385ABE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B235-A7AC-4611-B714-7A76DED3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C268-321E-4F73-A990-297131E9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BDE7-4E24-45CB-9EFD-CD587B0C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F23-7BB9-4A3D-A0D5-3C4370C4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8E13-A97F-4801-89F5-5199862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1A7C-30F2-466A-B929-2A887F9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6975-CB99-46CC-B5E8-58ECFAC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AAF-94D0-4285-B8E6-FD11E22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A79F-417C-473E-910E-684069A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7097-E608-4961-A660-7BEF7FE9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59D5-41AE-4D4B-9409-124D3DF9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A549-457D-4739-A70F-7D0E6CF2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C00F-D64A-4263-B853-2F08649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CBFC-BE9B-4556-9C54-FC00B904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12F1-0F37-486C-94C7-B7457980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7C50-D834-4298-B0C7-9022E28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F260-5F74-4F9F-A43C-4ADC71C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582F-6A1F-42D8-87BE-E2806044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DAF8-DD02-4566-B01F-C6121AD08C3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59A3-7153-44F6-9DAE-777F03930FB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900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2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ичам да приказв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ечните нещ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решни да показв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я Христ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метът на таз пове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вечната любов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къв предмет друг ням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 свят - ни стар, ни н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845280"/>
            <a:ext cx="932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, колко радост има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 таз повест най-любим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ткрива на всемир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Христовата любов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455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повест ми е мил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истинна от вс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уша ми влива сил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радост я рос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е Той ще сто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чудните нещ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всеки ще наме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брой съкровищ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845280"/>
            <a:ext cx="932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, колко радост има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 таз повест най-любим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ткрива на всемир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Христовата любов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-126720"/>
            <a:ext cx="932508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горе с хор небесе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във век веков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лавим с нова пес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овата любов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тази стара пове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чуем в Божи храм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Той за Своя поче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я разказва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845280"/>
            <a:ext cx="932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, колко радост има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 таз повест най-любим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ткрива на всемир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Христовата любов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08:43:58Z</dcterms:modified>
  <cp:revision>18</cp:revision>
  <dc:subject/>
  <dc:title>Slide 1</dc:title>
</cp:coreProperties>
</file>